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7DE-4A13-4548-BCA7-C8FE9BC9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414-447B-4947-960F-44EE9850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134-A157-4496-A111-9974684F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BAA-5569-43D3-8198-268EACBD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2BE0-8F8C-4891-951A-01B29908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572D-D5BC-4150-B02C-EFCBB5B4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C92-BF71-4DBC-9BDE-A318036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E36E-06CF-4F4A-B817-EBD76C85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D281-8092-49CE-8A46-5B63C4C4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D3F6-F503-47D8-8A9E-00EB8C80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E677-CE8A-4060-854D-09DA9D7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536-BF1D-422D-BA70-A6076834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EDC0-949D-4195-90FD-186C74A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715A-3B0C-4BAD-AE9E-17D06DE1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28D-0888-46E6-8F1F-6D074DC7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E30B-0C86-497E-A006-C0DB19DB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4D35-64A8-49CE-9297-EBEEF13B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B97-6D35-4F3D-87AC-CC7581B9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391D-D2C5-4493-A678-9CC9076F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A54-7895-4AAC-B9E8-EF8E8308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06F-B248-4A36-A51A-7C07D6F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79C-1A7A-4FFA-988D-59C8B8E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D80-D628-4707-AEFF-5848330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231-9ABA-4554-89C0-3EC2110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8EFC-E767-4923-9C18-AD74BC9C5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D191-44F2-4684-A178-1C35225FF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mping Jacks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ly spell and say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Jumping Jacks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students sta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jumping jacks to spell the word, saying a letter on each clap above their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ord is spelled, Students say the wor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52:24Z</dcterms:modified>
  <cp:revision>10</cp:revision>
  <dc:subject/>
  <dc:title>Basket Ball Vocabulary Introducing vocabulary idea, from Mentoring Minds</dc:title>
</cp:coreProperties>
</file>